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EA58BD-D142-4C84-9273-23ED0F96B1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554237-1015-4873-8F54-7EFA89B73B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6DF3900-4277-4FA5-8C7F-EF344316EF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87C417-405A-4D62-902C-22E70DFC0B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1A3BF8-6421-4E6B-833B-9017BE4908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CAA41F-26FA-4D24-8BBB-DC36F4E6B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29E401-22DE-4759-8E6D-D0FFABB502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9D103A-ED58-42B6-AA3A-382C16A8DE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26EAFCB-55E6-400E-96ED-D0DAD89555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8AF487-8601-477D-9B86-B557A5C789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6C0F00-5B22-4349-8750-DA2A91BF1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B90D2C-D382-41F8-A920-585A63561F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CDE0-C968-498D-A06E-9F37F0C115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1440" y="2133720"/>
            <a:ext cx="5977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康复医学的理论基础</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6300720" y="5445000"/>
            <a:ext cx="2508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岳寿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运动效应</a:t>
            </a:r>
            <a:endParaRPr b="0" lang="en-US" sz="3200" spc="-1" strike="noStrike">
              <a:solidFill>
                <a:srgbClr val="ffffff"/>
              </a:solidFill>
              <a:latin typeface="Verdana"/>
            </a:endParaRPr>
          </a:p>
        </p:txBody>
      </p:sp>
      <p:sp>
        <p:nvSpPr>
          <p:cNvPr id="126" name="PlaceHolder 2"/>
          <p:cNvSpPr>
            <a:spLocks noGrp="1"/>
          </p:cNvSpPr>
          <p:nvPr>
            <p:ph/>
          </p:nvPr>
        </p:nvSpPr>
        <p:spPr>
          <a:xfrm>
            <a:off x="610920" y="2276640"/>
            <a:ext cx="7848360" cy="302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对心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骼肌的影响            对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代谢的影响            对脂代谢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的影响</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052640"/>
            <a:ext cx="8569080" cy="5256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制动（</a:t>
            </a:r>
            <a:r>
              <a:rPr b="1" lang="en-US" sz="2800" spc="-1" strike="noStrike">
                <a:solidFill>
                  <a:srgbClr val="000000"/>
                </a:solidFill>
                <a:latin typeface="Verdana"/>
                <a:ea typeface="宋体"/>
              </a:rPr>
              <a:t>immobilization</a:t>
            </a:r>
            <a:r>
              <a:rPr b="1" lang="zh-CN" sz="2800" spc="-1" strike="noStrike">
                <a:solidFill>
                  <a:srgbClr val="000000"/>
                </a:solidFill>
                <a:latin typeface="Verdana"/>
                <a:ea typeface="宋体"/>
              </a:rPr>
              <a:t>）是临床最常用的保护性治疗措施。制动的形式有固定、卧床和瘫痪。长期制动可引起制动或废用综合征，卧床是保证渡过伤病危重期的必要措施。但是，长期卧床或制动可增加新的功能障碍，加重残疾，有时其后果较原发病和外伤的影响更加严重，甚至累及多系统的功能。因此针对制动要提倡运动，针对卧床要提倡起床、站立、活动</a:t>
            </a:r>
            <a:endParaRPr b="1" lang="en-US" sz="2800" spc="-1" strike="noStrike">
              <a:solidFill>
                <a:srgbClr val="8ac8de"/>
              </a:solidFill>
              <a:latin typeface="Verdana"/>
            </a:endParaRPr>
          </a:p>
        </p:txBody>
      </p:sp>
      <p:sp>
        <p:nvSpPr>
          <p:cNvPr id="128" name="Rectangle 3"/>
          <p:cNvSpPr/>
          <p:nvPr/>
        </p:nvSpPr>
        <p:spPr>
          <a:xfrm>
            <a:off x="6127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制动对机体的影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26560" y="2060640"/>
            <a:ext cx="7704360" cy="3672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800" spc="-1" strike="noStrike">
                <a:solidFill>
                  <a:srgbClr val="000000"/>
                </a:solidFill>
                <a:latin typeface="Verdana"/>
                <a:ea typeface="宋体"/>
              </a:rPr>
              <a:t>对肌肉的影响               对骨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性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系统的影响   对消化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皮肤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代谢和内分泌系统的影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106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32000" y="1557000"/>
            <a:ext cx="5780160" cy="3095640"/>
          </a:xfrm>
          <a:prstGeom prst="rect">
            <a:avLst/>
          </a:prstGeom>
          <a:noFill/>
          <a:ln w="0">
            <a:noFill/>
          </a:ln>
        </p:spPr>
        <p:txBody>
          <a:bodyPr anchor="t">
            <a:normAutofit fontScale="90000"/>
          </a:bodyPr>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神经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脊髓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干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水平的反射</a:t>
            </a:r>
            <a:endParaRPr b="1" lang="en-US" sz="2800" spc="-1" strike="noStrike">
              <a:solidFill>
                <a:srgbClr val="8ac8de"/>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神经学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04960" y="25164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539280" y="1243080"/>
            <a:ext cx="6264360" cy="4876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枢神经损伤反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受损轴突的近、远侧端肿胀</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损伤使兴奋性氨基酸释放增加 </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远端神经末梢退变及突轴传递消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胞体肿胀、胞核移位，胞核周围的尼氏体分散，染色质降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8ac8de"/>
              </a:solidFill>
              <a:latin typeface="Verdana"/>
            </a:endParaRPr>
          </a:p>
        </p:txBody>
      </p:sp>
      <p:pic>
        <p:nvPicPr>
          <p:cNvPr id="135" name="Picture 3" descr="TN_cns39"/>
          <p:cNvPicPr/>
          <p:nvPr/>
        </p:nvPicPr>
        <p:blipFill>
          <a:blip r:embed="rId1"/>
          <a:stretch/>
        </p:blipFill>
        <p:spPr>
          <a:xfrm>
            <a:off x="6732720" y="1413000"/>
            <a:ext cx="21492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8360" y="260280"/>
            <a:ext cx="807732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中枢神经的可塑性</a:t>
            </a:r>
            <a:endParaRPr b="0" lang="en-US" sz="3200" spc="-1" strike="noStrike">
              <a:solidFill>
                <a:srgbClr val="ffffff"/>
              </a:solidFill>
              <a:latin typeface="Verdana"/>
            </a:endParaRPr>
          </a:p>
        </p:txBody>
      </p:sp>
      <p:sp>
        <p:nvSpPr>
          <p:cNvPr id="137" name="PlaceHolder 2"/>
          <p:cNvSpPr>
            <a:spLocks noGrp="1"/>
          </p:cNvSpPr>
          <p:nvPr>
            <p:ph/>
          </p:nvPr>
        </p:nvSpPr>
        <p:spPr>
          <a:xfrm>
            <a:off x="539640" y="1341000"/>
            <a:ext cx="8136000" cy="40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Arial"/>
                <a:ea typeface="宋体"/>
              </a:rPr>
              <a:t>定义：为了主动适应和反映外界环境各种变化，神经系统能发生结构和功能的改变，并维持一定时间，这种变化就是可塑性（</a:t>
            </a:r>
            <a:r>
              <a:rPr b="1" lang="en-US" sz="2800" spc="-1" strike="noStrike">
                <a:solidFill>
                  <a:srgbClr val="000000"/>
                </a:solidFill>
                <a:latin typeface="Arial"/>
                <a:ea typeface="宋体"/>
              </a:rPr>
              <a:t>plasticity</a:t>
            </a:r>
            <a:r>
              <a:rPr b="1" lang="zh-CN" sz="2800" spc="-1" strike="noStrike">
                <a:solidFill>
                  <a:srgbClr val="000000"/>
                </a:solidFill>
                <a:latin typeface="Arial"/>
                <a:ea typeface="宋体"/>
              </a:rPr>
              <a:t>）。神经系统的可塑性决定了机体对内外环境刺激发生行为改变的反应能力，包括后天的差异、损伤、环境及经验对神经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9" name="PlaceHolder 2"/>
          <p:cNvSpPr>
            <a:spLocks noGrp="1"/>
          </p:cNvSpPr>
          <p:nvPr>
            <p:ph/>
          </p:nvPr>
        </p:nvSpPr>
        <p:spPr>
          <a:xfrm>
            <a:off x="1979280" y="1773360"/>
            <a:ext cx="57610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大脑的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突触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康复训练对大脑可塑性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脊髓的可塑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2282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运动学基础</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肌肉骨骼运动学</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肌肉的分型 </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根据肌细胞分化情况可将肌细胞分为：</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心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平滑肌    </a:t>
            </a:r>
            <a:endParaRPr b="1" lang="en-US" sz="2800" spc="-1" strike="noStrike">
              <a:solidFill>
                <a:srgbClr val="8ac8de"/>
              </a:solidFill>
              <a:latin typeface="Verdan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按骨骼肌在运动中的作用不同，可分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原动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拮抗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固定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协同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肌肉的收缩形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向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离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长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速收缩</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作用于人体的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内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外力：重力、机械阻力、支撑反作用力、摩擦力、流体作用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7640" y="404280"/>
            <a:ext cx="4464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15" name=""/>
          <p:cNvSpPr txBox="1"/>
          <p:nvPr/>
        </p:nvSpPr>
        <p:spPr>
          <a:xfrm>
            <a:off x="468360" y="1703520"/>
            <a:ext cx="4968720" cy="453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人体的力学杠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一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支点位于力点与阻力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阻力点位于力点和支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三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力点位于阻力点和支点之间</a:t>
            </a:r>
            <a:endParaRPr b="1" lang="en-US" sz="2800" spc="-1" strike="noStrike">
              <a:solidFill>
                <a:srgbClr val="8ac8de"/>
              </a:solidFill>
              <a:latin typeface="Verdana"/>
            </a:endParaRPr>
          </a:p>
        </p:txBody>
      </p:sp>
      <p:pic>
        <p:nvPicPr>
          <p:cNvPr id="116" name="Picture 6" descr="C:\Documents and Settings\Administrator\桌面\运动学图\第一部分章节1 essential topics ofkinesiology\23.jpg"/>
          <p:cNvPicPr/>
          <p:nvPr/>
        </p:nvPicPr>
        <p:blipFill>
          <a:blip r:embed="rId1"/>
          <a:stretch/>
        </p:blipFill>
        <p:spPr>
          <a:xfrm>
            <a:off x="5724360" y="1341360"/>
            <a:ext cx="288936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2523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178920" y="1557360"/>
            <a:ext cx="861084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宋体"/>
                <a:ea typeface="华文宋体"/>
              </a:rPr>
              <a:t>     </a:t>
            </a:r>
            <a:r>
              <a:rPr b="1" lang="zh-CN" sz="2800" spc="-1" strike="noStrike">
                <a:solidFill>
                  <a:srgbClr val="000000"/>
                </a:solidFill>
                <a:latin typeface="Arial"/>
                <a:ea typeface="宋体"/>
              </a:rPr>
              <a:t>二、关节运动学</a:t>
            </a:r>
            <a:endParaRPr b="1" lang="en-US" sz="2800" spc="-1" strike="noStrike">
              <a:solidFill>
                <a:srgbClr val="8ac8de"/>
              </a:solidFill>
              <a:latin typeface="Verdana"/>
            </a:endParaRPr>
          </a:p>
        </p:txBody>
      </p:sp>
      <p:sp>
        <p:nvSpPr>
          <p:cNvPr id="119" name="Text Box 5"/>
          <p:cNvSpPr/>
          <p:nvPr/>
        </p:nvSpPr>
        <p:spPr>
          <a:xfrm>
            <a:off x="684360" y="2708280"/>
            <a:ext cx="777528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关节运动学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是指关节表面的活动，大多数关节表面都有一些弯曲，即其中一面相对凸起，另一面相对凹陷，这种凹凸的连接可以增加关节面积，增强吻合度，起到稳定关节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1" name="Picture 2" descr=""/>
          <p:cNvPicPr/>
          <p:nvPr/>
        </p:nvPicPr>
        <p:blipFill>
          <a:blip r:embed="rId1"/>
          <a:stretch/>
        </p:blipFill>
        <p:spPr>
          <a:xfrm>
            <a:off x="4932360" y="1557360"/>
            <a:ext cx="3718080" cy="4102200"/>
          </a:xfrm>
          <a:prstGeom prst="rect">
            <a:avLst/>
          </a:prstGeom>
          <a:ln w="0">
            <a:noFill/>
          </a:ln>
        </p:spPr>
      </p:pic>
      <p:sp>
        <p:nvSpPr>
          <p:cNvPr id="122" name="TextBox 3"/>
          <p:cNvSpPr/>
          <p:nvPr/>
        </p:nvSpPr>
        <p:spPr>
          <a:xfrm>
            <a:off x="900000" y="2637000"/>
            <a:ext cx="352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关节表面的基本运动包括滚动、滑动和动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
          <p:cNvSpPr txBox="1"/>
          <p:nvPr/>
        </p:nvSpPr>
        <p:spPr>
          <a:xfrm>
            <a:off x="826920" y="1989000"/>
            <a:ext cx="7632720" cy="3384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关节运动原理凸面对凹面的运动而言，凸面的滚动与滑动的方向相反；凹面对凸面运动而言，凸面的滚动与滑动的方向相同；滚动的凸面一般都会伴有反方向的滑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06T09:22:14Z</dcterms:modified>
  <cp:revision>1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